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D347-2E0D-476D-AC46-CE35DE39C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 Mexican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 Roman Catho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220D-2FEF-45EE-8300-332E381CF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ta An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0362-8F0A-417B-B758-5A9050632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A7A7-2A25-4C9A-8920-D926640BF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(a) the Capitol and the state capitols; (b)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at the greedy tentacles are grabbing as much power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lankbac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2.xml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914400" y="2057400"/>
            <a:ext cx="7772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ustrialization was caused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ward Expansion (railr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09480" y="838080"/>
            <a:ext cx="73915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Darwinist said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he strong survive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win, Charle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the Origin of Spe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8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many others said that the big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low wages—too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laborers work too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ve their workers dangerous work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Triangle Shirtwaist Factory fire in 1911—fire escape doors locked, fire ladders too short, 150 people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image_Rockefeller3d1dff4d880c6fae8c4b1d93471ce36d.png"/>
          <p:cNvPicPr/>
          <p:nvPr/>
        </p:nvPicPr>
        <p:blipFill>
          <a:blip r:embed="rId1"/>
          <a:stretch/>
        </p:blipFill>
        <p:spPr>
          <a:xfrm>
            <a:off x="1066680" y="914400"/>
            <a:ext cx="5435640" cy="3695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946440" y="4800600"/>
            <a:ext cx="663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hn D. Rockefeller: oil refi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w up poor in upstate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7162920" y="21337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image_andrew-carnegie.jpg"/>
          <p:cNvPicPr/>
          <p:nvPr/>
        </p:nvPicPr>
        <p:blipFill>
          <a:blip r:embed="rId1"/>
          <a:stretch/>
        </p:blipFill>
        <p:spPr>
          <a:xfrm>
            <a:off x="609480" y="990720"/>
            <a:ext cx="7874280" cy="3835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1783800" y="5105520"/>
            <a:ext cx="50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rew Carnegie: ste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immigrant from Scot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7543800" y="4876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image_JP Morgan.jpeg"/>
          <p:cNvPicPr/>
          <p:nvPr/>
        </p:nvPicPr>
        <p:blipFill>
          <a:blip r:embed="rId1"/>
          <a:stretch/>
        </p:blipFill>
        <p:spPr>
          <a:xfrm>
            <a:off x="1828800" y="685800"/>
            <a:ext cx="3352680" cy="43308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766160" y="5105520"/>
            <a:ext cx="47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P Morgan: fin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to successful banking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7086600" y="2286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of 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image_wealth concentration.png"/>
          <p:cNvPicPr/>
          <p:nvPr/>
        </p:nvPicPr>
        <p:blipFill>
          <a:blip r:embed="rId1"/>
          <a:stretch/>
        </p:blipFill>
        <p:spPr>
          <a:xfrm>
            <a:off x="0" y="762120"/>
            <a:ext cx="7467480" cy="5627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1066680" y="6248520"/>
            <a:ext cx="6934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ion of Wealth…then and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62120" y="1066680"/>
            <a:ext cx="617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ent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 technology, then describe a person who used that technology to make a business fortu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 technology, then name a nation that used that technology to build an emp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breaker boys_coal"/>
          <p:cNvPicPr/>
          <p:nvPr/>
        </p:nvPicPr>
        <p:blipFill>
          <a:blip r:embed="rId1"/>
          <a:stretch/>
        </p:blipFill>
        <p:spPr>
          <a:xfrm>
            <a:off x="969840" y="887400"/>
            <a:ext cx="720252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knitters"/>
          <p:cNvPicPr/>
          <p:nvPr/>
        </p:nvPicPr>
        <p:blipFill>
          <a:blip r:embed="rId1"/>
          <a:stretch/>
        </p:blipFill>
        <p:spPr>
          <a:xfrm>
            <a:off x="982800" y="914400"/>
            <a:ext cx="7176960" cy="502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838080" y="1600200"/>
            <a:ext cx="7693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nights of Lab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in 186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Federation of Labor—AFL—formed was in  1886 and became coun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leading u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 unions relied 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lective bargai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union negotiates for workers as a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Harri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nes campaigned for u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838080" y="990720"/>
            <a:ext cx="76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llions of people moved to the cities for jobs and excit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banization--cit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nements--crowded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y life--with ligh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990720" y="175248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Westward Expa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 was discovered in California in 184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al, iron, lead, silver, copper and lumb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continental railroad was started in 1863 and completed in 186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immigrants wanted to farm out we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228600" y="1143000"/>
            <a:ext cx="8534520" cy="5508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cond Industrial Revolution was caused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8"/>
          <p:cNvPicPr/>
          <p:nvPr/>
        </p:nvPicPr>
        <p:blipFill>
          <a:blip r:embed="rId1"/>
          <a:stretch/>
        </p:blipFill>
        <p:spPr>
          <a:xfrm>
            <a:off x="1295280" y="914400"/>
            <a:ext cx="7086600" cy="500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19320" y="685800"/>
            <a:ext cx="7102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immigrants woul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ssimi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to America over time--become part of the American cul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many Americans disliked the newcomers. These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tivis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imed that the newcom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not assimilate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ok jobs from Americ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762120" y="16765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subsi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idy=grant of land or money to a busin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gave 180 million acres to the railroa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ailroads would sell the land to other people who could build businesses on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04920" y="762120"/>
            <a:ext cx="8534160" cy="5508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cond Industrial Revolution was caused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609480" y="114300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il discovered in Pennsylvania in 185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w technology—no one had used th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z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ff for fuel ever bef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dison invented the light bulb in187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reated an electric plant to light whole 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ll invented telephone in 187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,000 businesses had telephones by 188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d mass produced cars in 1900. He 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nted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ssembly in 19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ght brothers flew in 190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8600" y="380880"/>
            <a:ext cx="8534520" cy="5508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cond Industrial Revolution was caused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533520" y="2438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S4KrIMZpwC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763560" y="175248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Ford—assembly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002600" y="342900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ght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861480" y="4495680"/>
            <a:ext cx="49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T5o-fhBKf8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219320" y="685800"/>
            <a:ext cx="6476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difference between a “robber baron” and a “captain of industry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 classify Rockefeller and Carneg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 classify Bill Gates and Steve Job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457200" y="1295280"/>
            <a:ext cx="8305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Government did not regulate busines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ment followed idea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issez-fai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Companies could win TOTAL CONTROL over indust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called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opo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ckefeller and Carnegie used trusts to create monopol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Companies issued shares of stoc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people could share the profits (and losses) of the compan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52280" y="533520"/>
            <a:ext cx="8763120" cy="5508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id Big Business expand rapidly in Americ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1371600" y="914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563800" y="129528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6" descr=""/>
          <p:cNvPicPr/>
          <p:nvPr/>
        </p:nvPicPr>
        <p:blipFill>
          <a:blip r:embed="rId1"/>
          <a:stretch/>
        </p:blipFill>
        <p:spPr>
          <a:xfrm>
            <a:off x="1474920" y="2255760"/>
            <a:ext cx="1469880" cy="56052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17" descr=""/>
          <p:cNvPicPr/>
          <p:nvPr/>
        </p:nvPicPr>
        <p:blipFill>
          <a:blip r:embed="rId2"/>
          <a:stretch/>
        </p:blipFill>
        <p:spPr>
          <a:xfrm>
            <a:off x="3992400" y="2871720"/>
            <a:ext cx="1463760" cy="5540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8" descr=""/>
          <p:cNvPicPr/>
          <p:nvPr/>
        </p:nvPicPr>
        <p:blipFill>
          <a:blip r:embed="rId3"/>
          <a:stretch/>
        </p:blipFill>
        <p:spPr>
          <a:xfrm>
            <a:off x="5437080" y="2182680"/>
            <a:ext cx="1470240" cy="55404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19" descr=""/>
          <p:cNvPicPr/>
          <p:nvPr/>
        </p:nvPicPr>
        <p:blipFill>
          <a:blip r:embed="rId4"/>
          <a:stretch/>
        </p:blipFill>
        <p:spPr>
          <a:xfrm>
            <a:off x="5516640" y="2871720"/>
            <a:ext cx="1463760" cy="55404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20" descr=""/>
          <p:cNvPicPr/>
          <p:nvPr/>
        </p:nvPicPr>
        <p:blipFill>
          <a:blip r:embed="rId5"/>
          <a:stretch/>
        </p:blipFill>
        <p:spPr>
          <a:xfrm>
            <a:off x="1474920" y="3097080"/>
            <a:ext cx="1469880" cy="55404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21" descr=""/>
          <p:cNvPicPr/>
          <p:nvPr/>
        </p:nvPicPr>
        <p:blipFill>
          <a:blip r:embed="rId6"/>
          <a:stretch/>
        </p:blipFill>
        <p:spPr>
          <a:xfrm>
            <a:off x="7265880" y="2871720"/>
            <a:ext cx="1470240" cy="554040"/>
          </a:xfrm>
          <a:prstGeom prst="rect">
            <a:avLst/>
          </a:prstGeom>
          <a:ln w="0">
            <a:noFill/>
          </a:ln>
        </p:spPr>
      </p:pic>
      <p:sp>
        <p:nvSpPr>
          <p:cNvPr id="66" name="Straight Connector 23"/>
          <p:cNvSpPr/>
          <p:nvPr/>
        </p:nvSpPr>
        <p:spPr>
          <a:xfrm flipH="1">
            <a:off x="2207880" y="2744640"/>
            <a:ext cx="324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4"/>
          <p:cNvSpPr/>
          <p:nvPr/>
        </p:nvSpPr>
        <p:spPr>
          <a:xfrm flipH="1">
            <a:off x="6172200" y="2590920"/>
            <a:ext cx="14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25"/>
          <p:cNvSpPr/>
          <p:nvPr/>
        </p:nvSpPr>
        <p:spPr>
          <a:xfrm flipH="1">
            <a:off x="4800240" y="2438280"/>
            <a:ext cx="6858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26"/>
          <p:cNvSpPr/>
          <p:nvPr/>
        </p:nvSpPr>
        <p:spPr>
          <a:xfrm>
            <a:off x="6781680" y="26668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4572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 companies…one board of directo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hapter_activity"/>
          <p:cNvPicPr/>
          <p:nvPr/>
        </p:nvPicPr>
        <p:blipFill>
          <a:blip r:embed="rId1"/>
          <a:stretch/>
        </p:blipFill>
        <p:spPr>
          <a:xfrm>
            <a:off x="0" y="0"/>
            <a:ext cx="9144000" cy="819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462680" y="73080"/>
            <a:ext cx="1692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104240"/>
            <a:ext cx="822960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parency: Standard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5" descr="GR8_Ch14_Sec01_C30_Q"/>
          <p:cNvPicPr/>
          <p:nvPr/>
        </p:nvPicPr>
        <p:blipFill>
          <a:blip r:embed="rId2"/>
          <a:stretch/>
        </p:blipFill>
        <p:spPr>
          <a:xfrm>
            <a:off x="6629400" y="1066680"/>
            <a:ext cx="1743120" cy="60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97760" y="6489720"/>
            <a:ext cx="420840" cy="30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6934320" y="6491160"/>
            <a:ext cx="420480" cy="30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toc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67480" y="6489720"/>
            <a:ext cx="420840" cy="309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bttn_next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528040" y="6489720"/>
            <a:ext cx="420840" cy="30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ch14_06"/>
          <p:cNvPicPr/>
          <p:nvPr/>
        </p:nvPicPr>
        <p:blipFill>
          <a:blip r:embed="rId8"/>
          <a:stretch/>
        </p:blipFill>
        <p:spPr>
          <a:xfrm>
            <a:off x="304920" y="1676520"/>
            <a:ext cx="8170920" cy="4674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685800" y="762120"/>
            <a:ext cx="7924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efeller’s oil trust was like an octopus controlling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0:15:14Z</dcterms:created>
  <dc:creator>vijay.m</dc:creator>
  <dc:description/>
  <dc:language>en-US</dc:language>
  <cp:lastModifiedBy>Thomas Hagerty</cp:lastModifiedBy>
  <cp:lastPrinted>2013-04-24T11:44:13Z</cp:lastPrinted>
  <dcterms:modified xsi:type="dcterms:W3CDTF">2015-05-05T12:22:38Z</dcterms:modified>
  <cp:revision>406</cp:revision>
  <dc:subject/>
  <dc:title>Slide 1</dc:title>
</cp:coreProperties>
</file>